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6-08-26T23:20:12.474000000" idx="1">
    <p:pos x="1479" y="818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43A-1805-463A-BE39-C70BDF91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A63-08A3-4EDE-AA73-8FBE600E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8D4E8-F181-4728-91E7-00FD669A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5747F-89D2-4216-9AF7-E2652BB9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7FE77-BC91-49FA-95F1-DBF2D619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B4FD5-27E1-44ED-8A83-E2DA1229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B1E5D-94D0-4F3A-8AE7-299F6E78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84944-0714-4C20-BB47-4086C633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4225D-0B2F-4400-A981-7CC64502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B1228-0E7C-450E-B807-4D8EEE0D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C5356-E3B0-47E4-AFA9-7FA38EDB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022DD-9871-4F49-996A-5CB36F97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F55-F672-49FB-A50A-1D83D090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651B5-D5DA-43D9-8E6F-6E3CFE26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84F92-4393-427A-B33B-511C0267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6D4E2-5946-4668-A162-D807911B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D3B55-83CB-4BB6-BE42-1463F17D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DCA14-0CB8-4A47-93EB-1A1CF657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D5BE1-7288-4318-953A-ED1BA359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94F6A-8640-4422-B2D0-78246D37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A070D-5CC5-4288-BF05-F9DC280F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D2C88-A9F9-4E99-9376-1E4DD937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BBB5D-5CC2-4DFE-9EB3-B9FF5D62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930C-39EE-4CD3-9B92-5A02E5F1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FE387-58A6-48F3-844C-0F2DD2F8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A251B-F5D1-442E-8A78-B4964DE1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8666F-9F46-4B37-A8F6-F62DEABC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0F366-A9B8-4AB8-B257-5B196241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F7CA9-036D-417D-9806-8C81580B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613A0-BE07-49A0-B8C5-80477F0A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55DCE-BD0C-4C3F-845A-394CFFBA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AA134-0D46-4B4D-A6E1-D5A1D7DA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991B2-B864-40BB-8BB0-EFB32819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338B4-D338-4E4E-8D02-084751DD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5E7D-5C36-4489-B639-F16F109C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E30A8-97C6-4782-A668-F09375EB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214EA-8ADE-46CD-8270-1B91A45C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203C1-FC9E-4062-84BD-C99543CE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2446F-C3B8-4617-89D1-5434F2F5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BE533-2C1C-4919-881A-D87D134B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A2427-A93B-45CE-9099-4021D0BC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FF58B-DF43-40BA-8F50-A824F6EC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87C3F-7F73-41B7-8E35-82F645C8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B7ACF-F6A8-40FB-A299-8F2D7127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F7AB7-6AB8-459B-9505-8B657D1B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85B9-9194-4C2C-AF01-4B02432F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167B8-7447-46B0-928D-CAE3030D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043B6-628E-4ADD-A099-114ABCF4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37258-5738-4EA6-8BBE-8F9C1542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CEB5B-B1D7-4B27-A1FB-EC1E557B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146C2-E98D-44C9-BD68-C358FBB3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460E-1DFC-4F6D-8022-AFB868EE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E4DF-646E-445A-9B16-4F782115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BA29-EBDD-4FE1-9A7F-DE57933E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E1CA-5D6A-4259-A091-5791E2D8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CCDB-9BB6-45B5-AAEF-2AAC6E3F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CEB-7AE6-4E56-B759-97219829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1FD6-728D-4947-82AB-486BE36D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3AB6-956A-43E4-BCB5-0CDC4CD1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AC28-5958-4FC5-9D16-4AA859EC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4F0B-C5EF-4E1D-A87A-1744002F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9CDA-697A-4003-95DE-D8915845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A3BF6-AD91-4D40-8F10-D2960452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D18FE-20E1-4183-998E-381A960A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481D2-4217-47A5-BE13-C757DA7E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9FDCC-895B-495C-B1B6-A64B8382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C5764-8C39-4E8D-8569-0A294362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4B1-9816-41EF-B901-7B417BC5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59187-10CD-47B0-9312-5BC6022E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72D9F-0916-4FD8-8BA2-6520B8FA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674CF-3D19-4271-87B5-95131541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092E7-2A51-4754-8D7F-C8F2C004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ABDC7-2E4A-46DE-910F-7DE1F173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C142-E16B-46E0-9411-48A31C0C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5E402-E941-488A-B526-DC7F90CC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7764B-BCC0-48B6-9465-FE9951F7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FFC45-68A4-4517-9F87-CBDFDE11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9CD9E-D03A-43CA-B2E4-8E60BDB8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B41-9D83-42BB-B8C0-8DCBC264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B229B-94CE-4BBC-B297-7402541D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508EB-9D30-4D2C-B3AB-50C5D7B7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E452D-3533-44FF-A42E-AC1724A4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A3AFD-CF8F-445D-8397-8DDB0A8D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C3CEC-AFA1-4607-A88E-37EAB802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49C04-35BE-4237-B7D1-E722A462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65ED7-67F6-4583-BE98-1D047DE3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94CF4-12B9-48B0-8E14-000D5EAC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B49DB-2205-4002-B4F3-B95788A9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C893D-0F27-420F-BB19-497FDD5B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E267-5A64-48D5-A21A-C7F18F3E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276D8-39C6-4AC9-8D92-7EF79238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79018-E4B4-48DE-AE42-8AC9D1A8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800D6-0BFE-4C34-952B-506E3383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9ED25-7F6A-44D8-880B-88DDFB22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4B8F9-0BDB-491E-8D1C-F833E230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D37C2-AB14-4FD3-806D-CD6A9C76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0914A-1CC8-4782-B044-FED6C404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FB268-6B2D-4BC2-A41A-E65E3058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0DDC5-6782-4E55-89A0-1FE4DBD3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95368-04BC-436A-A27A-E9789A7E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547F-11E1-4386-AD74-EFA56951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CE85D-1EF2-4722-A3C4-C016B92B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4D499-CCD5-43C6-BE20-E109854E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68BAC-EE20-48C9-A855-A4179BDF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7FECE-1425-4D88-82F8-997DF33C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613AA-9F67-42EE-BAF3-C7352563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F149A-BC73-4C1F-801F-46936E28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0BEAA-5E23-455C-8A5F-C9F0BCA6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378B0-59EB-43FA-9A48-7BC536A7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80B1A-5B49-4550-8CA1-B569C74A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78FD8-4D37-473B-857E-D1CCCB32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6F6-9A70-410C-B6DC-F4D8297B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E752D-7AE3-44E6-87AA-6DF6099B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2BA29-0D5B-4C8E-8638-33B948FC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D7006-D8C8-423F-9BE9-242B996B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1A13C-8E48-458D-92FA-7B5DE13E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88C57-E645-4F8F-AC08-1F9CD358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A81B4-4E04-4884-87CC-91F2ED92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F37D9-2E18-4242-B824-B87A20C2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229DA-AEF5-4B63-BD89-20EAD649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433ED-CA80-47AA-8A4D-3F504280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97810-A9DE-46F7-AEB9-C523CDCE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57B5-381F-4F67-9E9D-89155B4D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F4240-0896-40B2-A254-84A9D50B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4D643-CF85-44A1-960A-7B6EEC7B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1505A-E34A-479D-A08C-8DD7528A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FBD32-AB58-42ED-8715-138C3F2C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6FC0D-875A-498B-A57B-CCEC1B57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9A9D5-1CD2-4A6B-946B-A1347D50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24BD0-36A3-497F-849B-151BD63E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E22DB-78A6-4C87-BF57-184A516A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AB2A5-88EA-4B06-9155-4C98BDC6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395AB-FA24-497F-88D0-ADEB4CC7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0CA-D630-4294-AF3B-8C775C05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6729A-0B0D-4A13-8ABA-CEB66FCD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6CB41-F6B1-4D39-A813-8B15FD15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83085-C842-4D1E-B637-58CC5F5B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BF8CF-8247-422B-B429-716BC559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602F1-8A41-4FBA-AEFB-7EFBC7DF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3D49A-4B34-4876-AA7F-4D8C4848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F80DF-6EC5-4D39-ADD5-71B814B1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98153-FF52-4A84-82D1-6B260225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13ED1-D693-4690-B5FF-27C93A46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50523-2B6A-43B9-A4F6-0683D5C5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867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867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867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2867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2867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2867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2867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5E1F-917D-45AD-9977-FB0E4007589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22F7-CB11-4702-82A9-129C4BA7A5A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4574-0D7B-4E5D-A2F5-1A7BCEA3498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0F40-4950-4D4C-812A-20FD5F23136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2969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1" name="椭圆 2969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969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970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2970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" name="椭圆 2970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" name="椭圆 2970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9" name="图片 29711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2009-15D8-4E9E-A39B-8F420E834B9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0C51-7170-40EB-83A0-5B68FE8132A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C1EF-E5C5-4CA0-BDB7-AF92368AFA3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206D-6625-4D23-9BA9-C693BA147D2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2C95-C407-49D2-8C6D-FB59536CB93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7BE3-5CDE-443B-B84E-AAC04106F31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50B4-B385-4575-8A3F-0F97174D52B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F86E-8027-4278-B219-171D5B9D952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<Relationship Id="rId3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z.exe" TargetMode="External"/><Relationship Id="rId2" Type="http://schemas.openxmlformats.org/officeDocument/2006/relationships/image" Target="../media/image14.png"/><Relationship Id="rId3" Type="http://schemas.openxmlformats.org/officeDocument/2006/relationships/hyperlink" Target="s.exe" TargetMode="External"/><Relationship Id="rId4" Type="http://schemas.openxmlformats.org/officeDocument/2006/relationships/image" Target="../media/image15.png"/><Relationship Id="rId5" Type="http://schemas.openxmlformats.org/officeDocument/2006/relationships/hyperlink" Target="c.exe" TargetMode="External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2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513" name="矩形 4"/>
          <p:cNvSpPr/>
          <p:nvPr/>
        </p:nvSpPr>
        <p:spPr>
          <a:xfrm>
            <a:off x="3659040" y="649440"/>
            <a:ext cx="329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z  c   s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图片 16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9080" cy="5097600"/>
          </a:xfrm>
          <a:prstGeom prst="rect">
            <a:avLst/>
          </a:prstGeom>
          <a:ln w="0">
            <a:noFill/>
          </a:ln>
        </p:spPr>
      </p:pic>
      <p:sp>
        <p:nvSpPr>
          <p:cNvPr id="581" name="文本框 1"/>
          <p:cNvSpPr/>
          <p:nvPr/>
        </p:nvSpPr>
        <p:spPr>
          <a:xfrm>
            <a:off x="2259360" y="4005360"/>
            <a:ext cx="454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1ad46"/>
                </a:solidFill>
                <a:uFillTx/>
                <a:latin typeface="Calibri"/>
                <a:ea typeface="宋体"/>
              </a:rPr>
              <a:t>做               擦           洒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文本框 17"/>
          <p:cNvSpPr/>
          <p:nvPr/>
        </p:nvSpPr>
        <p:spPr>
          <a:xfrm>
            <a:off x="4523040" y="1341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ff99"/>
                </a:solidFill>
                <a:uFillTx/>
                <a:latin typeface="Calibri"/>
                <a:ea typeface="宋体"/>
              </a:rPr>
              <a:t>认一认生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文本框 4"/>
          <p:cNvSpPr/>
          <p:nvPr/>
        </p:nvSpPr>
        <p:spPr>
          <a:xfrm>
            <a:off x="1989720" y="3297240"/>
            <a:ext cx="90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b0f0"/>
                </a:solidFill>
                <a:uFillTx/>
                <a:latin typeface="Calibri"/>
                <a:ea typeface="宋体"/>
              </a:rPr>
              <a:t>zuò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文本框 5"/>
          <p:cNvSpPr/>
          <p:nvPr/>
        </p:nvSpPr>
        <p:spPr>
          <a:xfrm>
            <a:off x="4494960" y="3297240"/>
            <a:ext cx="6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b0f0"/>
                </a:solidFill>
                <a:uFillTx/>
                <a:latin typeface="Calibri"/>
                <a:ea typeface="宋体"/>
              </a:rPr>
              <a:t>cā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文本框 6"/>
          <p:cNvSpPr/>
          <p:nvPr/>
        </p:nvSpPr>
        <p:spPr>
          <a:xfrm>
            <a:off x="6237720" y="3297240"/>
            <a:ext cx="63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b0f0"/>
                </a:solidFill>
                <a:uFillTx/>
                <a:latin typeface="Calibri"/>
                <a:ea typeface="宋体"/>
              </a:rPr>
              <a:t>sǎ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图片 16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9080" cy="509760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1"/>
          <p:cNvSpPr/>
          <p:nvPr/>
        </p:nvSpPr>
        <p:spPr>
          <a:xfrm>
            <a:off x="3246480" y="2565360"/>
            <a:ext cx="261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1ad46"/>
                </a:solidFill>
                <a:uFillTx/>
                <a:latin typeface="Calibri"/>
                <a:ea typeface="宋体"/>
              </a:rPr>
              <a:t>蚕宝宝，吐长丝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1ad46"/>
                </a:solidFill>
                <a:uFillTx/>
                <a:latin typeface="Calibri"/>
                <a:ea typeface="宋体"/>
              </a:rPr>
              <a:t>用丝织座小房子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1ad46"/>
                </a:solidFill>
                <a:uFillTx/>
                <a:latin typeface="Calibri"/>
                <a:ea typeface="宋体"/>
              </a:rPr>
              <a:t>睡在里面做个梦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1ad46"/>
                </a:solidFill>
                <a:uFillTx/>
                <a:latin typeface="Calibri"/>
                <a:ea typeface="宋体"/>
              </a:rPr>
              <a:t>变成一只小蛾子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文本框 17"/>
          <p:cNvSpPr/>
          <p:nvPr/>
        </p:nvSpPr>
        <p:spPr>
          <a:xfrm>
            <a:off x="3805920" y="134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ff99"/>
                </a:solidFill>
                <a:uFillTx/>
                <a:latin typeface="Calibri"/>
                <a:ea typeface="宋体"/>
              </a:rPr>
              <a:t>读儿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拓展提升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3" descr="1111"/>
          <p:cNvPicPr/>
          <p:nvPr/>
        </p:nvPicPr>
        <p:blipFill>
          <a:blip r:embed="rId1"/>
          <a:stretch/>
        </p:blipFill>
        <p:spPr>
          <a:xfrm>
            <a:off x="4573440" y="981000"/>
            <a:ext cx="3075120" cy="25210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11111"/>
          <p:cNvPicPr/>
          <p:nvPr/>
        </p:nvPicPr>
        <p:blipFill>
          <a:blip r:embed="rId2"/>
          <a:stretch/>
        </p:blipFill>
        <p:spPr>
          <a:xfrm>
            <a:off x="2087640" y="4087800"/>
            <a:ext cx="6119640" cy="1935000"/>
          </a:xfrm>
          <a:prstGeom prst="rect">
            <a:avLst/>
          </a:prstGeom>
          <a:ln w="0">
            <a:noFill/>
          </a:ln>
        </p:spPr>
      </p:pic>
      <p:sp>
        <p:nvSpPr>
          <p:cNvPr id="516" name="WordArt 5"/>
          <p:cNvSpPr txBox="1"/>
          <p:nvPr/>
        </p:nvSpPr>
        <p:spPr>
          <a:xfrm>
            <a:off x="3492360" y="1700280"/>
            <a:ext cx="90504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 u="sng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uFillTx/>
                <a:latin typeface="Arial"/>
              </a:rPr>
              <a:t>z</a:t>
            </a:r>
            <a:endParaRPr b="0" i="1" lang="en-US" sz="8000" spc="1" strike="noStrike" u="sng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uFillTx/>
              <a:latin typeface="Arial"/>
              <a:ea typeface="Arial"/>
            </a:endParaRPr>
          </a:p>
        </p:txBody>
      </p:sp>
      <p:sp>
        <p:nvSpPr>
          <p:cNvPr id="517" name="WordArt 6"/>
          <p:cNvSpPr txBox="1"/>
          <p:nvPr/>
        </p:nvSpPr>
        <p:spPr>
          <a:xfrm>
            <a:off x="7164360" y="1701720"/>
            <a:ext cx="1042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 u="sng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i="1" lang="en-US" sz="2400" spc="1" strike="noStrike" u="sng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uFillTx/>
              <a:latin typeface="Arial"/>
              <a:ea typeface="Arial"/>
            </a:endParaRPr>
          </a:p>
        </p:txBody>
      </p:sp>
      <p:sp>
        <p:nvSpPr>
          <p:cNvPr id="518" name="WordArt 7"/>
          <p:cNvSpPr txBox="1"/>
          <p:nvPr/>
        </p:nvSpPr>
        <p:spPr>
          <a:xfrm>
            <a:off x="1187280" y="4870440"/>
            <a:ext cx="1079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 u="sng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i="1" lang="en-US" sz="2400" spc="1" strike="noStrike" u="sng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uFillTx/>
              <a:latin typeface="Arial"/>
              <a:ea typeface="Arial"/>
            </a:endParaRPr>
          </a:p>
        </p:txBody>
      </p:sp>
      <p:pic>
        <p:nvPicPr>
          <p:cNvPr id="519" name="Picture 2" descr="111"/>
          <p:cNvPicPr/>
          <p:nvPr/>
        </p:nvPicPr>
        <p:blipFill>
          <a:blip r:embed="rId3"/>
          <a:stretch/>
        </p:blipFill>
        <p:spPr>
          <a:xfrm>
            <a:off x="1403280" y="922320"/>
            <a:ext cx="3168720" cy="2579760"/>
          </a:xfrm>
          <a:prstGeom prst="rect">
            <a:avLst/>
          </a:prstGeom>
          <a:ln w="0">
            <a:noFill/>
          </a:ln>
        </p:spPr>
      </p:pic>
      <p:sp>
        <p:nvSpPr>
          <p:cNvPr id="520" name="WordArt 5"/>
          <p:cNvSpPr txBox="1"/>
          <p:nvPr/>
        </p:nvSpPr>
        <p:spPr>
          <a:xfrm>
            <a:off x="3564000" y="2349360"/>
            <a:ext cx="90468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 u="sng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uFillTx/>
                <a:latin typeface="Arial"/>
              </a:rPr>
              <a:t>z</a:t>
            </a:r>
            <a:endParaRPr b="0" i="1" lang="en-US" sz="8000" spc="1" strike="noStrike" u="sng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uFillTx/>
              <a:latin typeface="Arial"/>
              <a:ea typeface="Arial"/>
            </a:endParaRPr>
          </a:p>
        </p:txBody>
      </p:sp>
      <p:sp>
        <p:nvSpPr>
          <p:cNvPr id="521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图片 2" descr=""/>
          <p:cNvPicPr/>
          <p:nvPr/>
        </p:nvPicPr>
        <p:blipFill>
          <a:blip r:embed="rId1"/>
          <a:stretch/>
        </p:blipFill>
        <p:spPr>
          <a:xfrm>
            <a:off x="2470320" y="1960560"/>
            <a:ext cx="5984640" cy="421164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3"/>
          <p:cNvSpPr/>
          <p:nvPr/>
        </p:nvSpPr>
        <p:spPr>
          <a:xfrm>
            <a:off x="2597040" y="1197000"/>
            <a:ext cx="576108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你拍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，我拍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小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2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小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2zzz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你拍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，我拍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半圆半圆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cc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你拍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，我拍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半个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8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字就是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1224000" y="1773360"/>
            <a:ext cx="6479640" cy="4319640"/>
            <a:chOff x="1224000" y="1773360"/>
            <a:chExt cx="6479640" cy="4319640"/>
          </a:xfrm>
        </p:grpSpPr>
        <p:pic>
          <p:nvPicPr>
            <p:cNvPr id="528" name="Picture 4" descr=""/>
            <p:cNvPicPr/>
            <p:nvPr/>
          </p:nvPicPr>
          <p:blipFill>
            <a:blip r:embed="rId1"/>
            <a:srcRect l="26383" t="29320" r="40552" b="62081"/>
            <a:stretch/>
          </p:blipFill>
          <p:spPr>
            <a:xfrm>
              <a:off x="2986920" y="1830960"/>
              <a:ext cx="4661640" cy="9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5" descr=""/>
            <p:cNvPicPr/>
            <p:nvPr/>
          </p:nvPicPr>
          <p:blipFill>
            <a:blip r:embed="rId2"/>
            <a:srcRect l="32275" t="65758" r="59249" b="23419"/>
            <a:stretch/>
          </p:blipFill>
          <p:spPr>
            <a:xfrm>
              <a:off x="1224000" y="1773360"/>
              <a:ext cx="11926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8" descr=""/>
            <p:cNvPicPr/>
            <p:nvPr/>
          </p:nvPicPr>
          <p:blipFill>
            <a:blip r:embed="rId3"/>
            <a:srcRect l="25634" t="28341" r="38163" b="62194"/>
            <a:stretch/>
          </p:blipFill>
          <p:spPr>
            <a:xfrm>
              <a:off x="2872800" y="3535200"/>
              <a:ext cx="466020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9" descr=""/>
            <p:cNvPicPr/>
            <p:nvPr/>
          </p:nvPicPr>
          <p:blipFill>
            <a:blip r:embed="rId4"/>
            <a:srcRect l="33024" t="65758" r="60338" b="25393"/>
            <a:stretch/>
          </p:blipFill>
          <p:spPr>
            <a:xfrm>
              <a:off x="1337760" y="3535200"/>
              <a:ext cx="965880" cy="9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10" descr=""/>
            <p:cNvPicPr/>
            <p:nvPr/>
          </p:nvPicPr>
          <p:blipFill>
            <a:blip r:embed="rId5"/>
            <a:srcRect l="26383" t="34247" r="38458" b="55363"/>
            <a:stretch/>
          </p:blipFill>
          <p:spPr>
            <a:xfrm>
              <a:off x="3043440" y="4956480"/>
              <a:ext cx="4660200" cy="10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11" descr=""/>
            <p:cNvPicPr/>
            <p:nvPr/>
          </p:nvPicPr>
          <p:blipFill>
            <a:blip r:embed="rId6"/>
            <a:srcRect l="33759" t="66732" r="61069" b="25393"/>
            <a:stretch/>
          </p:blipFill>
          <p:spPr>
            <a:xfrm>
              <a:off x="1451880" y="5126760"/>
              <a:ext cx="845640" cy="96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4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6" descr="E:\work\新课标配套课件全集\小学全集\mxy\小学语文\图片\xie_z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362320"/>
            <a:ext cx="1349640" cy="24350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8" descr="E:\work\新课标配套课件全集\小学全集\mxy\小学语文\图片\xie_s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2362320"/>
            <a:ext cx="1050840" cy="24224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19"/>
          <p:cNvSpPr/>
          <p:nvPr/>
        </p:nvSpPr>
        <p:spPr>
          <a:xfrm>
            <a:off x="2745000" y="5086440"/>
            <a:ext cx="389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小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2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ｚ，半圆ｃ，半个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8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字就是ｓ。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9" name="Picture 17" descr="E:\work\新课标配套课件全集\小学全集\mxy\小学语文\图片\xie_c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9880" y="2414520"/>
            <a:ext cx="1349640" cy="2297160"/>
          </a:xfrm>
          <a:prstGeom prst="rect">
            <a:avLst/>
          </a:prstGeom>
          <a:ln w="0">
            <a:noFill/>
          </a:ln>
        </p:spPr>
      </p:pic>
      <p:pic>
        <p:nvPicPr>
          <p:cNvPr id="540" name="矩形 1" descr=""/>
          <p:cNvPicPr/>
          <p:nvPr/>
        </p:nvPicPr>
        <p:blipFill>
          <a:blip r:embed="rId7"/>
          <a:stretch/>
        </p:blipFill>
        <p:spPr>
          <a:xfrm>
            <a:off x="3559320" y="1411200"/>
            <a:ext cx="2358720" cy="922320"/>
          </a:xfrm>
          <a:prstGeom prst="rect">
            <a:avLst/>
          </a:prstGeom>
          <a:ln w="0">
            <a:noFill/>
          </a:ln>
        </p:spPr>
      </p:pic>
      <p:sp>
        <p:nvSpPr>
          <p:cNvPr id="541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8" descr=""/>
          <p:cNvPicPr/>
          <p:nvPr/>
        </p:nvPicPr>
        <p:blipFill>
          <a:blip r:embed="rId1"/>
          <a:stretch/>
        </p:blipFill>
        <p:spPr>
          <a:xfrm>
            <a:off x="395280" y="744480"/>
            <a:ext cx="8016840" cy="5230800"/>
          </a:xfrm>
          <a:prstGeom prst="rect">
            <a:avLst/>
          </a:prstGeom>
          <a:ln w="0">
            <a:noFill/>
          </a:ln>
        </p:spPr>
      </p:pic>
      <p:grpSp>
        <p:nvGrpSpPr>
          <p:cNvPr id="544" name="Group 2"/>
          <p:cNvGrpSpPr/>
          <p:nvPr/>
        </p:nvGrpSpPr>
        <p:grpSpPr>
          <a:xfrm>
            <a:off x="1042920" y="2133720"/>
            <a:ext cx="7061040" cy="2923560"/>
            <a:chOff x="1042920" y="2133720"/>
            <a:chExt cx="7061040" cy="2923560"/>
          </a:xfrm>
        </p:grpSpPr>
        <p:pic>
          <p:nvPicPr>
            <p:cNvPr id="545" name="Picture 4" descr=""/>
            <p:cNvPicPr/>
            <p:nvPr/>
          </p:nvPicPr>
          <p:blipFill>
            <a:blip r:embed="rId2"/>
            <a:srcRect l="33992" t="26367" r="47193" b="65590"/>
            <a:stretch/>
          </p:blipFill>
          <p:spPr>
            <a:xfrm>
              <a:off x="1042920" y="2188440"/>
              <a:ext cx="214020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5" descr=""/>
            <p:cNvPicPr/>
            <p:nvPr/>
          </p:nvPicPr>
          <p:blipFill>
            <a:blip r:embed="rId3"/>
            <a:srcRect l="26383" t="38992" r="38134" b="52980"/>
            <a:stretch/>
          </p:blipFill>
          <p:spPr>
            <a:xfrm>
              <a:off x="3766680" y="2133720"/>
              <a:ext cx="4337280" cy="73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6" descr=""/>
            <p:cNvPicPr/>
            <p:nvPr/>
          </p:nvPicPr>
          <p:blipFill>
            <a:blip r:embed="rId4"/>
            <a:srcRect l="34291" t="38180" r="47595" b="55919"/>
            <a:stretch/>
          </p:blipFill>
          <p:spPr>
            <a:xfrm>
              <a:off x="1042920" y="3355200"/>
              <a:ext cx="214020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7" descr=""/>
            <p:cNvPicPr/>
            <p:nvPr/>
          </p:nvPicPr>
          <p:blipFill>
            <a:blip r:embed="rId5"/>
            <a:srcRect l="26383" t="49205" r="38942" b="43269"/>
            <a:stretch/>
          </p:blipFill>
          <p:spPr>
            <a:xfrm>
              <a:off x="3795120" y="3188880"/>
              <a:ext cx="4308840" cy="6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8" descr=""/>
            <p:cNvPicPr/>
            <p:nvPr/>
          </p:nvPicPr>
          <p:blipFill>
            <a:blip r:embed="rId6"/>
            <a:srcRect l="26383" t="59423" r="38942" b="33056"/>
            <a:stretch/>
          </p:blipFill>
          <p:spPr>
            <a:xfrm>
              <a:off x="3795120" y="4356360"/>
              <a:ext cx="4308840" cy="70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9" descr=""/>
            <p:cNvPicPr/>
            <p:nvPr/>
          </p:nvPicPr>
          <p:blipFill>
            <a:blip r:embed="rId7"/>
            <a:srcRect l="34291" t="48383" r="47595" b="46262"/>
            <a:stretch/>
          </p:blipFill>
          <p:spPr>
            <a:xfrm>
              <a:off x="1042920" y="4523040"/>
              <a:ext cx="2195640" cy="487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图片 9" descr=""/>
          <p:cNvPicPr/>
          <p:nvPr/>
        </p:nvPicPr>
        <p:blipFill>
          <a:blip r:embed="rId1"/>
          <a:stretch/>
        </p:blipFill>
        <p:spPr>
          <a:xfrm>
            <a:off x="395280" y="744480"/>
            <a:ext cx="8016840" cy="5230800"/>
          </a:xfrm>
          <a:prstGeom prst="rect">
            <a:avLst/>
          </a:prstGeom>
          <a:ln w="0">
            <a:noFill/>
          </a:ln>
        </p:spPr>
      </p:pic>
      <p:grpSp>
        <p:nvGrpSpPr>
          <p:cNvPr id="552" name="Group 2"/>
          <p:cNvGrpSpPr/>
          <p:nvPr/>
        </p:nvGrpSpPr>
        <p:grpSpPr>
          <a:xfrm>
            <a:off x="826920" y="1700280"/>
            <a:ext cx="7638840" cy="3655440"/>
            <a:chOff x="826920" y="1700280"/>
            <a:chExt cx="7638840" cy="3655440"/>
          </a:xfrm>
        </p:grpSpPr>
        <p:pic>
          <p:nvPicPr>
            <p:cNvPr id="553" name="Picture 8" descr=""/>
            <p:cNvPicPr/>
            <p:nvPr/>
          </p:nvPicPr>
          <p:blipFill>
            <a:blip r:embed="rId2"/>
            <a:srcRect l="26679" t="49638" r="36908" b="42295"/>
            <a:stretch/>
          </p:blipFill>
          <p:spPr>
            <a:xfrm>
              <a:off x="3924720" y="3264120"/>
              <a:ext cx="4541040" cy="662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4" name="Group 4"/>
            <p:cNvGrpSpPr/>
            <p:nvPr/>
          </p:nvGrpSpPr>
          <p:grpSpPr>
            <a:xfrm>
              <a:off x="826920" y="1700280"/>
              <a:ext cx="7638840" cy="3655440"/>
              <a:chOff x="826920" y="1700280"/>
              <a:chExt cx="7638840" cy="3655440"/>
            </a:xfrm>
          </p:grpSpPr>
          <p:pic>
            <p:nvPicPr>
              <p:cNvPr id="555" name="Picture 4" descr=""/>
              <p:cNvPicPr/>
              <p:nvPr/>
            </p:nvPicPr>
            <p:blipFill>
              <a:blip r:embed="rId3"/>
              <a:srcRect l="34398" t="27366" r="46351" b="66220"/>
              <a:stretch/>
            </p:blipFill>
            <p:spPr>
              <a:xfrm>
                <a:off x="826920" y="1759680"/>
                <a:ext cx="2737440" cy="60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6" name="Picture 5" descr=""/>
              <p:cNvPicPr/>
              <p:nvPr/>
            </p:nvPicPr>
            <p:blipFill>
              <a:blip r:embed="rId4"/>
              <a:srcRect l="34398" t="38372" r="46694" b="56135"/>
              <a:stretch/>
            </p:blipFill>
            <p:spPr>
              <a:xfrm>
                <a:off x="826920" y="3324960"/>
                <a:ext cx="2737440" cy="54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7" name="Picture 6" descr=""/>
              <p:cNvPicPr/>
              <p:nvPr/>
            </p:nvPicPr>
            <p:blipFill>
              <a:blip r:embed="rId5"/>
              <a:srcRect l="34398" t="48447" r="46351" b="46050"/>
              <a:stretch/>
            </p:blipFill>
            <p:spPr>
              <a:xfrm>
                <a:off x="826920" y="4768560"/>
                <a:ext cx="2737440" cy="58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Picture 7" descr=""/>
              <p:cNvPicPr/>
              <p:nvPr/>
            </p:nvPicPr>
            <p:blipFill>
              <a:blip r:embed="rId6"/>
              <a:srcRect l="26476" t="39637" r="35856" b="52296"/>
              <a:stretch/>
            </p:blipFill>
            <p:spPr>
              <a:xfrm>
                <a:off x="3833280" y="1700280"/>
                <a:ext cx="4632480" cy="66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9" descr=""/>
              <p:cNvPicPr/>
              <p:nvPr/>
            </p:nvPicPr>
            <p:blipFill>
              <a:blip r:embed="rId7"/>
              <a:srcRect l="26679" t="59856" r="36908" b="32623"/>
              <a:stretch/>
            </p:blipFill>
            <p:spPr>
              <a:xfrm>
                <a:off x="3924720" y="4649040"/>
                <a:ext cx="454104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60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图片 8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8015040" cy="5230800"/>
          </a:xfrm>
          <a:prstGeom prst="rect">
            <a:avLst/>
          </a:prstGeom>
          <a:ln w="0">
            <a:noFill/>
          </a:ln>
        </p:spPr>
      </p:pic>
      <p:grpSp>
        <p:nvGrpSpPr>
          <p:cNvPr id="563" name="Group 2"/>
          <p:cNvGrpSpPr/>
          <p:nvPr/>
        </p:nvGrpSpPr>
        <p:grpSpPr>
          <a:xfrm>
            <a:off x="1042920" y="1419120"/>
            <a:ext cx="6586560" cy="3151080"/>
            <a:chOff x="1042920" y="1419120"/>
            <a:chExt cx="6586560" cy="3151080"/>
          </a:xfrm>
        </p:grpSpPr>
        <p:pic>
          <p:nvPicPr>
            <p:cNvPr id="564" name="Picture 4" descr=""/>
            <p:cNvPicPr/>
            <p:nvPr/>
          </p:nvPicPr>
          <p:blipFill>
            <a:blip r:embed="rId2"/>
            <a:srcRect l="34468" t="28316" r="46417" b="66028"/>
            <a:stretch/>
          </p:blipFill>
          <p:spPr>
            <a:xfrm>
              <a:off x="1042920" y="1522800"/>
              <a:ext cx="2437920" cy="54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5" descr=""/>
            <p:cNvPicPr/>
            <p:nvPr/>
          </p:nvPicPr>
          <p:blipFill>
            <a:blip r:embed="rId3"/>
            <a:srcRect l="34468" t="38224" r="46768" b="56120"/>
            <a:stretch/>
          </p:blipFill>
          <p:spPr>
            <a:xfrm>
              <a:off x="1042920" y="2716200"/>
              <a:ext cx="24631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6" descr=""/>
            <p:cNvPicPr/>
            <p:nvPr/>
          </p:nvPicPr>
          <p:blipFill>
            <a:blip r:embed="rId4"/>
            <a:srcRect l="34468" t="48614" r="46768" b="45730"/>
            <a:stretch/>
          </p:blipFill>
          <p:spPr>
            <a:xfrm>
              <a:off x="1042920" y="4013280"/>
              <a:ext cx="24631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7" descr=""/>
            <p:cNvPicPr/>
            <p:nvPr/>
          </p:nvPicPr>
          <p:blipFill>
            <a:blip r:embed="rId5"/>
            <a:srcRect l="26808" t="46316" r="36790" b="45878"/>
            <a:stretch/>
          </p:blipFill>
          <p:spPr>
            <a:xfrm>
              <a:off x="3920040" y="1419120"/>
              <a:ext cx="370944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8" descr=""/>
            <p:cNvPicPr/>
            <p:nvPr/>
          </p:nvPicPr>
          <p:blipFill>
            <a:blip r:embed="rId6"/>
            <a:srcRect l="26383" t="56352" r="37203" b="35842"/>
            <a:stretch/>
          </p:blipFill>
          <p:spPr>
            <a:xfrm>
              <a:off x="3841200" y="2664720"/>
              <a:ext cx="3788280" cy="61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Picture 9" descr=""/>
            <p:cNvPicPr/>
            <p:nvPr/>
          </p:nvPicPr>
          <p:blipFill>
            <a:blip r:embed="rId7"/>
            <a:srcRect l="26383" t="66403" r="37203" b="25791"/>
            <a:stretch/>
          </p:blipFill>
          <p:spPr>
            <a:xfrm>
              <a:off x="3920760" y="3961800"/>
              <a:ext cx="3708360" cy="596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图片 1" descr=""/>
          <p:cNvPicPr/>
          <p:nvPr/>
        </p:nvPicPr>
        <p:blipFill>
          <a:blip r:embed="rId1"/>
          <a:stretch/>
        </p:blipFill>
        <p:spPr>
          <a:xfrm>
            <a:off x="395280" y="744480"/>
            <a:ext cx="8016840" cy="5230800"/>
          </a:xfrm>
          <a:prstGeom prst="rect">
            <a:avLst/>
          </a:prstGeom>
          <a:ln w="0">
            <a:noFill/>
          </a:ln>
        </p:spPr>
      </p:pic>
      <p:grpSp>
        <p:nvGrpSpPr>
          <p:cNvPr id="571" name="Group 2"/>
          <p:cNvGrpSpPr/>
          <p:nvPr/>
        </p:nvGrpSpPr>
        <p:grpSpPr>
          <a:xfrm>
            <a:off x="755640" y="1628640"/>
            <a:ext cx="7236000" cy="3460680"/>
            <a:chOff x="755640" y="1628640"/>
            <a:chExt cx="7236000" cy="3460680"/>
          </a:xfrm>
        </p:grpSpPr>
        <p:pic>
          <p:nvPicPr>
            <p:cNvPr id="572" name="Picture 4" descr=""/>
            <p:cNvPicPr/>
            <p:nvPr/>
          </p:nvPicPr>
          <p:blipFill>
            <a:blip r:embed="rId2"/>
            <a:srcRect l="34468" t="28316" r="46417" b="66028"/>
            <a:stretch/>
          </p:blipFill>
          <p:spPr>
            <a:xfrm>
              <a:off x="755640" y="1742760"/>
              <a:ext cx="267840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5" descr=""/>
            <p:cNvPicPr/>
            <p:nvPr/>
          </p:nvPicPr>
          <p:blipFill>
            <a:blip r:embed="rId3"/>
            <a:srcRect l="34468" t="38224" r="46768" b="56120"/>
            <a:stretch/>
          </p:blipFill>
          <p:spPr>
            <a:xfrm>
              <a:off x="755640" y="3053160"/>
              <a:ext cx="2706120" cy="6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6" descr=""/>
            <p:cNvPicPr/>
            <p:nvPr/>
          </p:nvPicPr>
          <p:blipFill>
            <a:blip r:embed="rId4"/>
            <a:srcRect l="34468" t="48614" r="46768" b="45730"/>
            <a:stretch/>
          </p:blipFill>
          <p:spPr>
            <a:xfrm>
              <a:off x="755640" y="4477680"/>
              <a:ext cx="2706120" cy="6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7" descr=""/>
            <p:cNvPicPr/>
            <p:nvPr/>
          </p:nvPicPr>
          <p:blipFill>
            <a:blip r:embed="rId5"/>
            <a:srcRect l="26808" t="46316" r="36790" b="45878"/>
            <a:stretch/>
          </p:blipFill>
          <p:spPr>
            <a:xfrm>
              <a:off x="3916080" y="1628640"/>
              <a:ext cx="4075200" cy="6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8" descr=""/>
            <p:cNvPicPr/>
            <p:nvPr/>
          </p:nvPicPr>
          <p:blipFill>
            <a:blip r:embed="rId6"/>
            <a:srcRect l="26383" t="56352" r="37203" b="35842"/>
            <a:stretch/>
          </p:blipFill>
          <p:spPr>
            <a:xfrm>
              <a:off x="3829680" y="2996640"/>
              <a:ext cx="4161600" cy="67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9" descr=""/>
            <p:cNvPicPr/>
            <p:nvPr/>
          </p:nvPicPr>
          <p:blipFill>
            <a:blip r:embed="rId7"/>
            <a:srcRect l="26383" t="66403" r="37203" b="25791"/>
            <a:stretch/>
          </p:blipFill>
          <p:spPr>
            <a:xfrm>
              <a:off x="3917520" y="4421160"/>
              <a:ext cx="4074120" cy="65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8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1:40:59Z</dcterms:created>
  <dc:creator/>
  <dc:description/>
  <dc:language>en-US</dc:language>
  <cp:lastModifiedBy>万润仪器贸易公司</cp:lastModifiedBy>
  <dcterms:modified xsi:type="dcterms:W3CDTF">2020-08-24T01:41:09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